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853A-5B1F-46AC-AC97-6F7DA7424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ovea_capitis_femoris" TargetMode="External"/><Relationship Id="rId2" Type="http://schemas.openxmlformats.org/officeDocument/2006/relationships/slide" Target="../slides/slide28.xml"/><Relationship Id="rId3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9E4C-6D1E-4E09-A59B-38DDCD46286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ament of the head of the femu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lso known a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amentum capitis femor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amentum teres femor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is a triangular, somewhat flattened band implanted by its apex into the antero-superior part of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fovea capitis femor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; its base is attached by two bands, one into either side of the acetabular notch, and between these bony attachments it blends with the transverse liga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ensheathed by the synovial membrane, and varies greatly in strength in different subjects; occasionally only the  exists, and in rare cases even this is ab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ament is made tense when the thigh is semiflexed and the limb then abducted or rotated outward; it is, on the other hand, relaxed when the limb is addu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, however, but little influence as a ligament past childhood[1][2] according to some references. According to the Encyclopedia Britannica, the ligament gives the femur a stabilizing strength which, as in the orangatan, some animals lack[3]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1C4-A6DE-4500-BD2C-240B31D6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294-71E6-4E3C-B0AC-52C5CBFB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092-0DE7-4677-9C12-FAB928E4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AB7-FCC5-4AF9-AB26-5B050E87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CDF8-5142-44E4-88E3-23B34239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6461-9BA3-42B4-B9FA-9D77FB0B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3C8C-F59A-4C71-8852-9DC400E3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4AD2-BD87-4A9C-9E1B-5EA32E4C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2F69-BC31-4536-8D40-04D84A8E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F6F0-2DF6-4CAC-9FDE-2DA685F6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61BA-7903-408C-9931-96722132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92F-B558-4E0F-981A-909696FF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4BB5-155F-41B4-B644-A5CD66E3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0F9F-7878-4F19-A605-6B49F6B4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B421-E913-4EC3-9A01-FBB39B7A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ABD7F-01D2-4675-8D3C-FBEA67C0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45E0-C467-457A-B670-DEEB64AF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50D-AF98-450C-B6EB-FB17DB84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1C3-D840-4A51-A7F6-3356816D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350-0F9D-4C09-9B9D-DB23A8F7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96C-CE00-4D96-BBA7-F1D38CDF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508-9B4D-45AE-9B9A-13556B11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4565-F426-4C9A-8B6C-26FCD2CB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657-3D5D-4ABB-A1F1-832DFAFC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>
              <a:gd name="textAreaLeft" fmla="*/ 0 w 1982880"/>
              <a:gd name="textAreaRight" fmla="*/ 1983240 w 1982880"/>
              <a:gd name="textAreaTop" fmla="*/ 0 h 654120"/>
              <a:gd name="textAreaBottom" fmla="*/ 654120 h 654120"/>
            </a:gdLst>
            <a:ahLst/>
            <a:rect l="textAreaLeft" t="textAreaTop" r="textAreaRight" b="textAreaBottom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>
              <a:gd name="textAreaLeft" fmla="*/ 0 w 1984320"/>
              <a:gd name="textAreaRight" fmla="*/ 1984680 w 198432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>
              <a:gd name="textAreaLeft" fmla="*/ 0 w 1947960"/>
              <a:gd name="textAreaRight" fmla="*/ 1948320 w 1947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>
              <a:gd name="textAreaLeft" fmla="*/ 0 w 122040"/>
              <a:gd name="textAreaRight" fmla="*/ 122400 w 12204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>
              <a:gd name="textAreaLeft" fmla="*/ 0 w 1951200"/>
              <a:gd name="textAreaRight" fmla="*/ 1951560 w 195120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>
              <a:gd name="textAreaLeft" fmla="*/ 0 w 90360"/>
              <a:gd name="textAreaRight" fmla="*/ 90720 w 9036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>
                <a:gd name="textAreaLeft" fmla="*/ 0 w 3381480"/>
                <a:gd name="textAreaRight" fmla="*/ 3381840 w 338148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450720"/>
                <a:gd name="textAreaBottom" fmla="*/ 450720 h 450720"/>
              </a:gdLst>
              <a:ahLst/>
              <a:rect l="textAreaLeft" t="textAreaTop" r="textAreaRight" b="textAreaBottom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>
                <a:gd name="textAreaLeft" fmla="*/ 0 w 3435480"/>
                <a:gd name="textAreaRight" fmla="*/ 3435840 w 34354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>
                <a:gd name="textAreaLeft" fmla="*/ 0 w 3379680"/>
                <a:gd name="textAreaRight" fmla="*/ 3380040 w 337968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>
                <a:gd name="textAreaLeft" fmla="*/ 0 w 3378240"/>
                <a:gd name="textAreaRight" fmla="*/ 3378600 w 3378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5761-536F-4611-A2C5-CB0322051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7"/>
          <p:cNvSpPr/>
          <p:nvPr/>
        </p:nvSpPr>
        <p:spPr>
          <a:xfrm>
            <a:off x="3024360" y="46080"/>
            <a:ext cx="3144600" cy="1046160"/>
          </a:xfrm>
          <a:custGeom>
            <a:avLst/>
            <a:gdLst>
              <a:gd name="textAreaLeft" fmla="*/ 0 w 3144600"/>
              <a:gd name="textAreaRight" fmla="*/ 3144960 w 314460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3022560" y="684360"/>
            <a:ext cx="3146400" cy="48564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3022560" y="771480"/>
            <a:ext cx="3146400" cy="490680"/>
          </a:xfrm>
          <a:custGeom>
            <a:avLst/>
            <a:gdLst>
              <a:gd name="textAreaLeft" fmla="*/ 0 w 3146400"/>
              <a:gd name="textAreaRight" fmla="*/ 3146760 w 31464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3044880" y="851040"/>
            <a:ext cx="3085920" cy="36504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2"/>
          <p:cNvSpPr/>
          <p:nvPr/>
        </p:nvSpPr>
        <p:spPr>
          <a:xfrm>
            <a:off x="5057640" y="358920"/>
            <a:ext cx="193680" cy="649080"/>
          </a:xfrm>
          <a:custGeom>
            <a:avLst/>
            <a:gdLst>
              <a:gd name="textAreaLeft" fmla="*/ 0 w 193680"/>
              <a:gd name="textAreaRight" fmla="*/ 194040 w 19368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3052800" y="4680"/>
            <a:ext cx="3092400" cy="642960"/>
          </a:xfrm>
          <a:custGeom>
            <a:avLst/>
            <a:gdLst>
              <a:gd name="textAreaLeft" fmla="*/ 0 w 3092400"/>
              <a:gd name="textAreaRight" fmla="*/ 3092760 w 30924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4"/>
          <p:cNvSpPr/>
          <p:nvPr/>
        </p:nvSpPr>
        <p:spPr>
          <a:xfrm>
            <a:off x="3981600" y="334800"/>
            <a:ext cx="142560" cy="638280"/>
          </a:xfrm>
          <a:custGeom>
            <a:avLst/>
            <a:gdLst>
              <a:gd name="textAreaLeft" fmla="*/ 0 w 142560"/>
              <a:gd name="textAreaRight" fmla="*/ 142920 w 14256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5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6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677880"/>
                <a:gd name="textAreaBottom" fmla="*/ 677880 h 677880"/>
              </a:gdLst>
              <a:ahLst/>
              <a:rect l="textAreaLeft" t="textAreaTop" r="textAreaRight" b="textAreaBottom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3760"/>
                <a:gd name="textAreaBottom" fmla="*/ 294120 h 293760"/>
              </a:gdLst>
              <a:ahLst/>
              <a:rect l="textAreaLeft" t="textAreaTop" r="textAreaRight" b="textAreaBottom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>
                <a:gd name="textAreaLeft" fmla="*/ 0 w 2795400"/>
                <a:gd name="textAreaRight" fmla="*/ 2795400 w 27954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22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706680"/>
                <a:gd name="textAreaBottom" fmla="*/ 706680 h 706680"/>
              </a:gdLst>
              <a:ahLst/>
              <a:rect l="textAreaLeft" t="textAreaTop" r="textAreaRight" b="textAreaBottom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>
                <a:gd name="textAreaLeft" fmla="*/ 0 w 2795760"/>
                <a:gd name="textAreaRight" fmla="*/ 2796120 w 2795760"/>
                <a:gd name="textAreaTop" fmla="*/ 0 h 312840"/>
                <a:gd name="textAreaBottom" fmla="*/ 312840 h 312840"/>
              </a:gdLst>
              <a:ahLst/>
              <a:rect l="textAreaLeft" t="textAreaTop" r="textAreaRight" b="textAreaBottom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>
                <a:gd name="textAreaLeft" fmla="*/ 0 w 2751120"/>
                <a:gd name="textAreaRight" fmla="*/ 2751120 w 27511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E687-75B3-4A28-A602-C7279A1D704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btfun.com/files/Hip_Dani_X-ray_03Feb04_1a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ip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lvic Gird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cetabul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 bones fused togeth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luteal Li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liac Cres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I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I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Greater Sciatic Notc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9" name="Picture 6" descr="hip pelvic bone lateral view1"/>
          <p:cNvPicPr/>
          <p:nvPr/>
        </p:nvPicPr>
        <p:blipFill>
          <a:blip r:embed="rId1"/>
          <a:stretch/>
        </p:blipFill>
        <p:spPr>
          <a:xfrm>
            <a:off x="276120" y="2116080"/>
            <a:ext cx="4087800" cy="4135320"/>
          </a:xfrm>
          <a:prstGeom prst="rect">
            <a:avLst/>
          </a:prstGeom>
          <a:ln w="0">
            <a:noFill/>
          </a:ln>
        </p:spPr>
      </p:pic>
      <p:sp>
        <p:nvSpPr>
          <p:cNvPr id="150" name="Line 7"/>
          <p:cNvSpPr/>
          <p:nvPr/>
        </p:nvSpPr>
        <p:spPr>
          <a:xfrm>
            <a:off x="1219320" y="4724280"/>
            <a:ext cx="274320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09480" y="63244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teral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0" y="213336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liac Cr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I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I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lliac Fos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Picture 6" descr="hip pelvic bone lateral view"/>
          <p:cNvPicPr/>
          <p:nvPr/>
        </p:nvPicPr>
        <p:blipFill>
          <a:blip r:embed="rId1"/>
          <a:stretch/>
        </p:blipFill>
        <p:spPr>
          <a:xfrm>
            <a:off x="135000" y="2127240"/>
            <a:ext cx="4371840" cy="41115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8"/>
          <p:cNvSpPr/>
          <p:nvPr/>
        </p:nvSpPr>
        <p:spPr>
          <a:xfrm>
            <a:off x="304920" y="6324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edial Vie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3809880" y="3276720"/>
            <a:ext cx="457200" cy="0"/>
          </a:xfrm>
          <a:prstGeom prst="line">
            <a:avLst/>
          </a:prstGeom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s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hial tubero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hial sp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ssor Sciatic Not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9" name="Picture 5" descr="hip pelvic bone lateral view1"/>
          <p:cNvPicPr/>
          <p:nvPr/>
        </p:nvPicPr>
        <p:blipFill>
          <a:blip r:embed="rId1"/>
          <a:stretch/>
        </p:blipFill>
        <p:spPr>
          <a:xfrm>
            <a:off x="4343400" y="1905120"/>
            <a:ext cx="4495680" cy="42876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>
            <a:off x="5562720" y="4648320"/>
            <a:ext cx="137160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7010280" y="4648320"/>
            <a:ext cx="0" cy="137160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s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uperior Ramus of Pub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ferior Ramus of Pub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ub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ubis symphy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6" descr="hip pelvic bone lateral view1"/>
          <p:cNvPicPr/>
          <p:nvPr/>
        </p:nvPicPr>
        <p:blipFill>
          <a:blip r:embed="rId1"/>
          <a:stretch/>
        </p:blipFill>
        <p:spPr>
          <a:xfrm>
            <a:off x="276120" y="1828800"/>
            <a:ext cx="4372200" cy="4422600"/>
          </a:xfrm>
          <a:prstGeom prst="rect">
            <a:avLst/>
          </a:prstGeom>
          <a:ln w="0">
            <a:noFill/>
          </a:ln>
        </p:spPr>
      </p:pic>
      <p:sp>
        <p:nvSpPr>
          <p:cNvPr id="165" name="Line 7"/>
          <p:cNvSpPr/>
          <p:nvPr/>
        </p:nvSpPr>
        <p:spPr>
          <a:xfrm>
            <a:off x="2819520" y="4648320"/>
            <a:ext cx="0" cy="129528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Line 8"/>
          <p:cNvSpPr/>
          <p:nvPr/>
        </p:nvSpPr>
        <p:spPr>
          <a:xfrm>
            <a:off x="2819520" y="4572000"/>
            <a:ext cx="1143000" cy="0"/>
          </a:xfrm>
          <a:prstGeom prst="line">
            <a:avLst/>
          </a:prstGeom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pre61756_2111"/>
          <p:cNvPicPr/>
          <p:nvPr/>
        </p:nvPicPr>
        <p:blipFill>
          <a:blip r:embed="rId1"/>
          <a:stretch/>
        </p:blipFill>
        <p:spPr>
          <a:xfrm>
            <a:off x="0" y="0"/>
            <a:ext cx="667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pre61756_2110"/>
          <p:cNvPicPr/>
          <p:nvPr/>
        </p:nvPicPr>
        <p:blipFill>
          <a:blip r:embed="rId1"/>
          <a:stretch/>
        </p:blipFill>
        <p:spPr>
          <a:xfrm>
            <a:off x="0" y="0"/>
            <a:ext cx="8001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quiz hi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hip"/>
          <p:cNvPicPr/>
          <p:nvPr/>
        </p:nvPicPr>
        <p:blipFill>
          <a:blip r:embed="rId1"/>
          <a:stretch/>
        </p:blipFill>
        <p:spPr>
          <a:xfrm>
            <a:off x="1295280" y="1066680"/>
            <a:ext cx="69343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Pelvis-anterior"/>
          <p:cNvPicPr/>
          <p:nvPr/>
        </p:nvPicPr>
        <p:blipFill>
          <a:blip r:embed="rId1"/>
          <a:stretch/>
        </p:blipFill>
        <p:spPr>
          <a:xfrm>
            <a:off x="1066680" y="974880"/>
            <a:ext cx="784872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Pelvis-posterior"/>
          <p:cNvPicPr/>
          <p:nvPr/>
        </p:nvPicPr>
        <p:blipFill>
          <a:blip r:embed="rId1"/>
          <a:stretch/>
        </p:blipFill>
        <p:spPr>
          <a:xfrm>
            <a:off x="609480" y="1031760"/>
            <a:ext cx="77724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35000" y="888840"/>
            <a:ext cx="8896320" cy="536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6" descr="Hip_Dani_X-ray_03Feb04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46080"/>
            <a:ext cx="897588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rticulations of the Hip and Pelv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c Symph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pubic dis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me move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5" name="Picture 6" descr="hip pubic symphysis"/>
          <p:cNvPicPr/>
          <p:nvPr/>
        </p:nvPicPr>
        <p:blipFill>
          <a:blip r:embed="rId1"/>
          <a:stretch/>
        </p:blipFill>
        <p:spPr>
          <a:xfrm>
            <a:off x="5294160" y="2116080"/>
            <a:ext cx="3102120" cy="4135320"/>
          </a:xfrm>
          <a:prstGeom prst="rect">
            <a:avLst/>
          </a:prstGeom>
          <a:ln w="0">
            <a:noFill/>
          </a:ln>
        </p:spPr>
      </p:pic>
      <p:sp>
        <p:nvSpPr>
          <p:cNvPr id="176" name="Oval 7"/>
          <p:cNvSpPr/>
          <p:nvPr/>
        </p:nvSpPr>
        <p:spPr>
          <a:xfrm>
            <a:off x="6477120" y="4800600"/>
            <a:ext cx="838080" cy="83808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rticulations of the Hip and Pelv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c Symph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9" name="Picture 9" descr="hip pubic symphysis"/>
          <p:cNvPicPr/>
          <p:nvPr/>
        </p:nvPicPr>
        <p:blipFill>
          <a:blip r:embed="rId1"/>
          <a:stretch/>
        </p:blipFill>
        <p:spPr>
          <a:xfrm>
            <a:off x="685800" y="2971800"/>
            <a:ext cx="2895480" cy="3886200"/>
          </a:xfrm>
          <a:prstGeom prst="rect">
            <a:avLst/>
          </a:prstGeom>
          <a:ln w="0">
            <a:noFill/>
          </a:ln>
        </p:spPr>
      </p:pic>
      <p:sp>
        <p:nvSpPr>
          <p:cNvPr id="180" name="Oval 10"/>
          <p:cNvSpPr/>
          <p:nvPr/>
        </p:nvSpPr>
        <p:spPr>
          <a:xfrm>
            <a:off x="1447920" y="4495680"/>
            <a:ext cx="1447560" cy="99072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13" descr="p_sacroiliac_anatomy"/>
          <p:cNvPicPr/>
          <p:nvPr/>
        </p:nvPicPr>
        <p:blipFill>
          <a:blip r:embed="rId2"/>
          <a:stretch/>
        </p:blipFill>
        <p:spPr>
          <a:xfrm>
            <a:off x="4191120" y="1981080"/>
            <a:ext cx="4728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8480" y="3049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rticulations of the Hip and Pelv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3718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ubic Symph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p J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4" name="Picture 9" descr="hip ball and socket xsect"/>
          <p:cNvPicPr/>
          <p:nvPr/>
        </p:nvPicPr>
        <p:blipFill>
          <a:blip r:embed="rId1"/>
          <a:stretch/>
        </p:blipFill>
        <p:spPr>
          <a:xfrm>
            <a:off x="4875120" y="2116080"/>
            <a:ext cx="3938760" cy="4135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acetabularlig"/>
          <p:cNvPicPr/>
          <p:nvPr/>
        </p:nvPicPr>
        <p:blipFill>
          <a:blip r:embed="rId2"/>
          <a:stretch/>
        </p:blipFill>
        <p:spPr>
          <a:xfrm>
            <a:off x="457200" y="3048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igamentous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7" name="Picture 3" descr="384hipj2"/>
          <p:cNvPicPr/>
          <p:nvPr/>
        </p:nvPicPr>
        <p:blipFill>
          <a:blip r:embed="rId1"/>
          <a:stretch/>
        </p:blipFill>
        <p:spPr>
          <a:xfrm>
            <a:off x="1752480" y="1484280"/>
            <a:ext cx="5791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pre61756_2112"/>
          <p:cNvPicPr/>
          <p:nvPr/>
        </p:nvPicPr>
        <p:blipFill>
          <a:blip r:embed="rId1"/>
          <a:stretch/>
        </p:blipFill>
        <p:spPr>
          <a:xfrm>
            <a:off x="2743200" y="44280"/>
            <a:ext cx="335268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8480" y="38052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igamentous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3" descr="384hipj1"/>
          <p:cNvPicPr/>
          <p:nvPr/>
        </p:nvPicPr>
        <p:blipFill>
          <a:blip r:embed="rId1"/>
          <a:stretch/>
        </p:blipFill>
        <p:spPr>
          <a:xfrm>
            <a:off x="1143000" y="1295280"/>
            <a:ext cx="670572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8851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Ligamentous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2" name="Picture 3" descr="384hipj3"/>
          <p:cNvPicPr/>
          <p:nvPr/>
        </p:nvPicPr>
        <p:blipFill>
          <a:blip r:embed="rId1"/>
          <a:stretch/>
        </p:blipFill>
        <p:spPr>
          <a:xfrm>
            <a:off x="1143000" y="1425600"/>
            <a:ext cx="6629400" cy="54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gamentous and Cartilogenous Structures for the Hip and Pelvic Gird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p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e thickenings of the 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ub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Ish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gamentum Te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5" name="Picture 7" descr="hip ishiofemoral ligament"/>
          <p:cNvPicPr/>
          <p:nvPr/>
        </p:nvPicPr>
        <p:blipFill>
          <a:blip r:embed="rId1"/>
          <a:stretch/>
        </p:blipFill>
        <p:spPr>
          <a:xfrm>
            <a:off x="135000" y="2425680"/>
            <a:ext cx="43718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gamentous and Cartilogenous Structures for the Hip and Pelvic Gird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acroiliac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ip Joi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ee thickenings of the capsu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l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ub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shiofemor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Ligamentum Ter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11" descr="ligamentum teres"/>
          <p:cNvPicPr/>
          <p:nvPr/>
        </p:nvPicPr>
        <p:blipFill>
          <a:blip r:embed="rId1"/>
          <a:stretch/>
        </p:blipFill>
        <p:spPr>
          <a:xfrm>
            <a:off x="135000" y="2627280"/>
            <a:ext cx="437184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quiz pelvis"/>
          <p:cNvPicPr/>
          <p:nvPr/>
        </p:nvPicPr>
        <p:blipFill>
          <a:blip r:embed="rId1"/>
          <a:stretch/>
        </p:blipFill>
        <p:spPr>
          <a:xfrm>
            <a:off x="-2743200" y="-274680"/>
            <a:ext cx="11887200" cy="71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ny Anatom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emu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oral He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emoral Nec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sser Trocha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tertrochanteric Cr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luteal Tuberos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nea aspe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6" descr="hip proximal femur"/>
          <p:cNvPicPr/>
          <p:nvPr/>
        </p:nvPicPr>
        <p:blipFill>
          <a:blip r:embed="rId1"/>
          <a:stretch/>
        </p:blipFill>
        <p:spPr>
          <a:xfrm>
            <a:off x="228600" y="2819520"/>
            <a:ext cx="47419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ony Anatomy of the Femu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8" name="Picture 3" descr="384fem1a"/>
          <p:cNvPicPr/>
          <p:nvPr/>
        </p:nvPicPr>
        <p:blipFill>
          <a:blip r:embed="rId1"/>
          <a:stretch/>
        </p:blipFill>
        <p:spPr>
          <a:xfrm>
            <a:off x="0" y="2022480"/>
            <a:ext cx="4572000" cy="4495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84fem2p"/>
          <p:cNvPicPr/>
          <p:nvPr/>
        </p:nvPicPr>
        <p:blipFill>
          <a:blip r:embed="rId2"/>
          <a:stretch/>
        </p:blipFill>
        <p:spPr>
          <a:xfrm>
            <a:off x="4572000" y="19810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pre61756_2101"/>
          <p:cNvPicPr/>
          <p:nvPr/>
        </p:nvPicPr>
        <p:blipFill>
          <a:blip r:embed="rId1"/>
          <a:stretch/>
        </p:blipFill>
        <p:spPr>
          <a:xfrm>
            <a:off x="0" y="0"/>
            <a:ext cx="676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6" descr="Femur-anteri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Femur-posteri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ony Anatomy of the Hip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5" name="Picture 3" descr="cox1l"/>
          <p:cNvPicPr/>
          <p:nvPr/>
        </p:nvPicPr>
        <p:blipFill>
          <a:blip r:embed="rId1"/>
          <a:stretch/>
        </p:blipFill>
        <p:spPr>
          <a:xfrm>
            <a:off x="85680" y="2590920"/>
            <a:ext cx="4486320" cy="4267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ox2"/>
          <p:cNvPicPr/>
          <p:nvPr/>
        </p:nvPicPr>
        <p:blipFill>
          <a:blip r:embed="rId2"/>
          <a:stretch/>
        </p:blipFill>
        <p:spPr>
          <a:xfrm>
            <a:off x="4572000" y="2590920"/>
            <a:ext cx="45720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9:09:44Z</dcterms:created>
  <dc:creator>Information Resources Rowan U</dc:creator>
  <dc:description/>
  <dc:language>en-US</dc:language>
  <cp:lastModifiedBy>ASHANSEL</cp:lastModifiedBy>
  <dcterms:modified xsi:type="dcterms:W3CDTF">2010-03-16T10:43:22Z</dcterms:modified>
  <cp:revision>21</cp:revision>
  <dc:subject/>
  <dc:title>Hip Anatomy</dc:title>
</cp:coreProperties>
</file>